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9D70-93E2-4E80-BD2C-5A253F2E1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5A1D-B240-4139-9702-40B4D227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F916-4504-4BF4-9834-812848418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969E-EAB2-44F7-B9A9-7F52012CF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CCCE-12FF-4DDE-B0B3-96978E9DA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D1A6-7BE5-4E90-92CD-771E4AC9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A711-902C-4110-9DA5-5890D111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E776-D675-43A0-A0BB-4293CBE1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95E3-591F-43FE-8CED-23947A4C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3D07-CC8A-47B5-95FF-77855EAD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A826-98DB-4A60-866B-F948B3D2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215E-750E-4014-9457-3F30C6C0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D65D-E15C-475B-A319-DADA6DB6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23E6-5A83-49EC-9516-A2CD1B57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C982-AE27-4C6E-AF73-65813F97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1F2B-4115-4ADD-A36D-4753121C0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0EBE-E6EE-4642-92BE-5380D92A5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0ADB-DFD3-43B9-89B2-287CFB5D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A201-3810-41E1-A046-0DF1DDD8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C38A-287C-417A-8E1D-594182CA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99F0-3429-4BB7-9D54-0AEA17B8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595E-F90B-4CC9-9A02-E50D9A3E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EC7F-B9DA-4B8B-9CA3-D6037782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F753-7C35-45CB-86EC-E314319A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825B-8A3D-48D0-A2E8-A972E99845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E2A2-7276-496A-9A9B-AB881B85EB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28.xml"/><Relationship Id="rId7" Type="http://schemas.openxmlformats.org/officeDocument/2006/relationships/slide" Target="slide4.xml"/><Relationship Id="rId8" Type="http://schemas.openxmlformats.org/officeDocument/2006/relationships/slide" Target="slide9.xml"/><Relationship Id="rId9" Type="http://schemas.openxmlformats.org/officeDocument/2006/relationships/slide" Target="slide14.xml"/><Relationship Id="rId10" Type="http://schemas.openxmlformats.org/officeDocument/2006/relationships/slide" Target="slide19.xml"/><Relationship Id="rId11" Type="http://schemas.openxmlformats.org/officeDocument/2006/relationships/slide" Target="slide24.xml"/><Relationship Id="rId12" Type="http://schemas.openxmlformats.org/officeDocument/2006/relationships/slide" Target="slide29.xml"/><Relationship Id="rId13" Type="http://schemas.openxmlformats.org/officeDocument/2006/relationships/slide" Target="slide5.xml"/><Relationship Id="rId14" Type="http://schemas.openxmlformats.org/officeDocument/2006/relationships/slide" Target="slide10.xml"/><Relationship Id="rId15" Type="http://schemas.openxmlformats.org/officeDocument/2006/relationships/slide" Target="slide15.xml"/><Relationship Id="rId16" Type="http://schemas.openxmlformats.org/officeDocument/2006/relationships/slide" Target="slide20.xml"/><Relationship Id="rId17" Type="http://schemas.openxmlformats.org/officeDocument/2006/relationships/slide" Target="slide25.xml"/><Relationship Id="rId18" Type="http://schemas.openxmlformats.org/officeDocument/2006/relationships/slide" Target="slide30.xml"/><Relationship Id="rId19" Type="http://schemas.openxmlformats.org/officeDocument/2006/relationships/slide" Target="slide6.xml"/><Relationship Id="rId20" Type="http://schemas.openxmlformats.org/officeDocument/2006/relationships/slide" Target="slide11.xml"/><Relationship Id="rId21" Type="http://schemas.openxmlformats.org/officeDocument/2006/relationships/slide" Target="slide16.xml"/><Relationship Id="rId22" Type="http://schemas.openxmlformats.org/officeDocument/2006/relationships/slide" Target="slide21.xml"/><Relationship Id="rId23" Type="http://schemas.openxmlformats.org/officeDocument/2006/relationships/slide" Target="slide26.xml"/><Relationship Id="rId24" Type="http://schemas.openxmlformats.org/officeDocument/2006/relationships/slide" Target="slide31.xml"/><Relationship Id="rId25" Type="http://schemas.openxmlformats.org/officeDocument/2006/relationships/slide" Target="slide7.xml"/><Relationship Id="rId26" Type="http://schemas.openxmlformats.org/officeDocument/2006/relationships/slide" Target="slide12.xml"/><Relationship Id="rId27" Type="http://schemas.openxmlformats.org/officeDocument/2006/relationships/slide" Target="slide17.xml"/><Relationship Id="rId28" Type="http://schemas.openxmlformats.org/officeDocument/2006/relationships/slide" Target="slide22.xml"/><Relationship Id="rId29" Type="http://schemas.openxmlformats.org/officeDocument/2006/relationships/slide" Target="slide27.xml"/><Relationship Id="rId30" Type="http://schemas.openxmlformats.org/officeDocument/2006/relationships/slide" Target="slide32.xml"/><Relationship Id="rId3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2b2b2"/>
                </a:solidFill>
                <a:latin typeface="Arial Black"/>
              </a:rPr>
              <a:t>Ecology</a:t>
            </a:r>
            <a:endParaRPr b="0" lang="en-US" sz="8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46280" y="1981080"/>
            <a:ext cx="38498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3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wo adaptations that make cacti successful in the dese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4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iome with greatest species divers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5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erm used to describe the top layer of frozen soil in the tundr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umber of organisms in a population an ecosystem can indefinitely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ype of population growth seen when resources are plentiful and no limiting factors are pres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ype of curve that represents population growth when limiting factors are pres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Organisms that start success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5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ame for stable ecosystem reached at the end of success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1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ose, long-term relationship between 2 or more spec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2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elationship between humans and e-coli in intestin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0" y="103320"/>
          <a:ext cx="9144000" cy="67546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erg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om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t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ship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rm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yc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3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elationship between giraffes and oxpeck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4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elationship between remora and sha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5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elationship between a tick and a huma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1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roup of organisms of the same species that live in the same area at the same tim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2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roup of populations living in an ecosystem at the same tim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3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physical location where an organism liv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4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ere an organism lives; what it eats; when it reproduces; who it mates wit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5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nother term for decompos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rocess by which CO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s obtained from the atmosphe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urning of fossil fue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1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the level of the pyramid that has the highest amount of energ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hange of N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to ammoni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3 ways carbon is returned to the atmosphe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hange of ammonia back to N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0" y="52560"/>
          <a:ext cx="9144000" cy="708336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erg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om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t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ship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rm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yc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st trophic le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sslan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rying capac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mbios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tosynthes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if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onential growth (J curv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tualis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bus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nivo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xy coating (prevents water los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in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-cur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tualis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bit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trogen fix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oma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infore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ioneer organism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ensalis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ch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iration, combustion, forest fi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mafro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max commun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asitis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n’t need to know this ques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nitrific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2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the amount of energy that is lost with each trophic lev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3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the name given to animals that only eat other anima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4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the term for the total weight of living organisms within a trophic lev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5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the amount of energy lost by the 4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trophic level if the available energy in the 1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trophic level is 10,00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1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iome most common in the Midwestern United Stat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2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ype of trees whose branches can bend to resist weight of sno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8:35:08Z</dcterms:created>
  <dc:creator>jayoig</dc:creator>
  <dc:description/>
  <dc:language>en-US</dc:language>
  <cp:lastModifiedBy>jayoig</cp:lastModifiedBy>
  <dcterms:modified xsi:type="dcterms:W3CDTF">2010-11-05T13:24:11Z</dcterms:modified>
  <cp:revision>6</cp:revision>
  <dc:subject/>
  <dc:title>Ecology</dc:title>
</cp:coreProperties>
</file>